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5436-5FD7-4DEB-9489-9AED4FEB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A0A8-6D65-4B45-A8FA-1DE25A1A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62F2-3A17-49B3-844E-55036EF6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18CB-5A3F-478B-965A-522E0719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B55C-ED02-4100-9C28-84CCFB32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51D3-AFBA-4028-AB98-1E7A06BE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EBF5-3E4B-4464-B44F-FE26EB2F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2DA9-3551-4F56-8A2B-6D152AC6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EC09-C48E-4A58-8D59-9794F1CD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F17E-AEB1-454E-A5E6-4B70267B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04D9-D4D9-4458-BDE8-1772CFB3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BAE3-2FD1-4D6C-99D7-CC00B339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ED54-29FA-4AF4-93D1-96E78C01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5304-DF68-48AD-AD47-51FA8496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76F6-ADAA-46FD-A5C5-523D94FE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5715-E859-4666-8398-68D1ABFB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03BA-6137-4C9F-BC52-E8128D30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EDCC-2607-4F49-ABD3-BC3B793F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9FD2-9A05-426A-8DD6-982E7274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4FC2-4402-40E9-A84F-D9EE10B5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B2B2-13AC-4A8E-A66D-24B7C956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BAB5-EAB9-4608-8376-4188103A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E525-651D-432B-B05B-E38ED180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3FB6-B772-4C3B-A064-ABA697E8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4EF9-C45D-43BF-9D83-27E99ACBF1B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4379-0055-4505-B62F-98E221DBB9A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arm-Up Senten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a llama gets mad, it spits bad smelling saliva into their enemies f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bsters walks around on 8 legs just as spiders 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Journal #35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something that you have never done, but want t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have you never done it?  When do you plan on doing i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arm-Up Senten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one needs to improve their writeing and math skills because less and less jobs require mussels on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 and I discovered that before the Revolutionary War, anyone who needed money had to borrow from there friends and family, no banks exis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Journal #36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down the instructions for how to snap your fing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-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riday Warm-up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erbs (words lik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quickly, grudgingly, slyly, complete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and so on) describe or modify verbs, adjectives, and other adverb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352680"/>
            <a:ext cx="876312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e how many adverbs you can come up with to modify the verb </a:t>
            </a: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approached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in the following sentence.  Try to include at least ten adverbs in your lis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ucy ________________ approached the stran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7:02:52Z</dcterms:created>
  <dc:creator>tpagel</dc:creator>
  <dc:description/>
  <dc:language>en-US</dc:language>
  <cp:lastModifiedBy>tpagel</cp:lastModifiedBy>
  <dcterms:modified xsi:type="dcterms:W3CDTF">2010-06-03T17:03:29Z</dcterms:modified>
  <cp:revision>1</cp:revision>
  <dc:subject/>
  <dc:title>Warm-Up Sentences</dc:title>
</cp:coreProperties>
</file>